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F8B-B5CF-4960-BCE6-B8764153B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E2FA-5270-4630-9B6D-E353C0F14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04C-FF48-4B12-B361-FE9157D96E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69F-06BC-41F5-A7D4-6AFA0912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DEC-7FB4-41AB-B111-D6F3A5B2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53E-7AFC-45CD-B7D4-13A29C91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C31-4E06-400C-99F1-CC1F2CFD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3D0-89F8-430E-A0CC-10FCE355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084-1B67-4136-BC39-BA3096AF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BC5-6009-44D4-B942-B904174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C64-B16E-4FC1-BCF0-1143C69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C45-F027-4236-AF65-48D1ED45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79F-9DF7-4CCE-A7BA-29AF0CB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83D-CB89-4D3A-8519-837CDCE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26E-DA16-4BD0-B4E9-63910658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C23-9DC4-41F7-96A1-5D1DAD1F8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1194714092_fludilkaru-cveti_oboi-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2" descr=""/>
          <p:cNvPicPr/>
          <p:nvPr/>
        </p:nvPicPr>
        <p:blipFill>
          <a:blip r:embed="rId2"/>
          <a:stretch/>
        </p:blipFill>
        <p:spPr>
          <a:xfrm>
            <a:off x="457200" y="365040"/>
            <a:ext cx="840096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7800" y="5245200"/>
            <a:ext cx="457200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User\Мои документы\день матери\мама1.jpg"/>
          <p:cNvPicPr/>
          <p:nvPr/>
        </p:nvPicPr>
        <p:blipFill>
          <a:blip r:embed="rId3"/>
          <a:stretch/>
        </p:blipFill>
        <p:spPr>
          <a:xfrm>
            <a:off x="285840" y="2620800"/>
            <a:ext cx="4236840" cy="3835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1.jpg"/>
          <p:cNvPicPr/>
          <p:nvPr/>
        </p:nvPicPr>
        <p:blipFill>
          <a:blip r:embed="rId1"/>
          <a:stretch/>
        </p:blipFill>
        <p:spPr>
          <a:xfrm>
            <a:off x="5715000" y="1643040"/>
            <a:ext cx="3429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1"/>
          <p:cNvGrpSpPr/>
          <p:nvPr/>
        </p:nvGrpSpPr>
        <p:grpSpPr>
          <a:xfrm>
            <a:off x="487440" y="1633680"/>
            <a:ext cx="4956120" cy="5163840"/>
            <a:chOff x="487440" y="1633680"/>
            <a:chExt cx="4956120" cy="5163840"/>
          </a:xfrm>
        </p:grpSpPr>
        <p:pic>
          <p:nvPicPr>
            <p:cNvPr id="54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487440" y="1633680"/>
              <a:ext cx="4956120" cy="51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00040" y="1643040"/>
              <a:ext cx="492912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2 п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Во многих странах мира отмечают День матери, правда, в разное время.  В День мате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чествуются только матери и берем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женщины, а не все представительницы  слабого пол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По некоторым источникам тради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празднования Дня матери берет нач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еще в древнем Риме,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Римляне посвящ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три дня в марте (с 22 по 25) матери богов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восточной Кибеле.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Древние греки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отдава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дань уважения матери всех богов - Гее.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Дл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кельтов Днем матери был день честв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Georgia"/>
                </a:rPr>
                <a:t>богини Бриджит.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 25) матери богов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Прямоугольник 4" descr=""/>
          <p:cNvPicPr/>
          <p:nvPr/>
        </p:nvPicPr>
        <p:blipFill>
          <a:blip r:embed="rId3"/>
          <a:stretch/>
        </p:blipFill>
        <p:spPr>
          <a:xfrm>
            <a:off x="195120" y="201600"/>
            <a:ext cx="8680680" cy="139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Прямоугольник 1"/>
          <p:cNvGrpSpPr/>
          <p:nvPr/>
        </p:nvGrpSpPr>
        <p:grpSpPr>
          <a:xfrm>
            <a:off x="255600" y="469800"/>
            <a:ext cx="3987720" cy="6199200"/>
            <a:chOff x="255600" y="469800"/>
            <a:chExt cx="3987720" cy="6199200"/>
          </a:xfrm>
        </p:grpSpPr>
        <p:pic>
          <p:nvPicPr>
            <p:cNvPr id="5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55600" y="469800"/>
              <a:ext cx="3987720" cy="61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85840" y="500040"/>
              <a:ext cx="3929040" cy="61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8f8f8"/>
                  </a:solidFill>
                  <a:latin typeface="Georgia"/>
                </a:rPr>
                <a:t>В </a:t>
              </a:r>
              <a:r>
                <a:rPr b="1" lang="ru-RU" sz="2400" spc="-1" strike="noStrike">
                  <a:solidFill>
                    <a:srgbClr val="00007d"/>
                  </a:solidFill>
                  <a:latin typeface="Georgia"/>
                </a:rPr>
                <a:t>В России</a:t>
              </a:r>
              <a:r>
                <a:rPr b="0" lang="ru-RU" sz="2400" spc="-1" strike="noStrike">
                  <a:solidFill>
                    <a:srgbClr val="00007d"/>
                  </a:solidFill>
                  <a:latin typeface="Georgia"/>
                </a:rPr>
                <a:t> День матери отмечается в четвертое воскресенье ноября с 1998 г.      на основании Указ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Georgia"/>
                </a:rPr>
                <a:t>     </a:t>
              </a:r>
              <a:r>
                <a:rPr b="0" lang="ru-RU" sz="2400" spc="-1" strike="noStrike">
                  <a:solidFill>
                    <a:srgbClr val="00007d"/>
                  </a:solidFill>
                  <a:latin typeface="Georgia"/>
                </a:rPr>
                <a:t>Президента РФ   Б.Н. Ельцина. В этот день по традиции поздравляют женщин, добившихся успехов в воспитании детей, многодетных мам и матерей-одиночек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Овал 2"/>
          <p:cNvSpPr/>
          <p:nvPr/>
        </p:nvSpPr>
        <p:spPr>
          <a:xfrm>
            <a:off x="5143680" y="2214720"/>
            <a:ext cx="3857400" cy="435744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User\Мои документы\Картинки 2\30326851_460x370.jpg"/>
          <p:cNvPicPr/>
          <p:nvPr/>
        </p:nvPicPr>
        <p:blipFill>
          <a:blip r:embed="rId2"/>
          <a:stretch/>
        </p:blipFill>
        <p:spPr>
          <a:xfrm>
            <a:off x="4140360" y="500040"/>
            <a:ext cx="4789440" cy="6175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7"/>
          <p:cNvSpPr/>
          <p:nvPr/>
        </p:nvSpPr>
        <p:spPr>
          <a:xfrm>
            <a:off x="285840" y="857160"/>
            <a:ext cx="4429080" cy="535788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Каждую секунду в мире рождается три человека, и они тоже вскоре смогут произнести слово «мама». С первого дня жизни ребенка мать живет его дыханием, его слезами и улыбками. Любовь матери также естественна как цветение сирени. Солнце согревает все живое, а её любовь согревает жизнь малыша. Но главное, мать приобщает дитя к своей родине. В его уста она вкладывает родной язык вобравший богатство разума, мысли и чувства поколений. Она наполняет его жизнь духовной силой, помогает постичь вечные ценности. У мамы самое доброе сердце, самые добрые и ласковые руки на  с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б"/>
          <p:cNvPicPr/>
          <p:nvPr/>
        </p:nvPicPr>
        <p:blipFill>
          <a:blip r:embed="rId2"/>
          <a:stretch/>
        </p:blipFill>
        <p:spPr>
          <a:xfrm>
            <a:off x="4722840" y="1052640"/>
            <a:ext cx="4421160" cy="47527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5" descr=""/>
          <p:cNvPicPr/>
          <p:nvPr/>
        </p:nvPicPr>
        <p:blipFill>
          <a:blip r:embed="rId3"/>
          <a:stretch/>
        </p:blipFill>
        <p:spPr>
          <a:xfrm>
            <a:off x="285840" y="212760"/>
            <a:ext cx="3859200" cy="793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571680" y="214200"/>
            <a:ext cx="8143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28760" y="285840"/>
            <a:ext cx="46432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Пожалуй, самой трагичной была судьба матери в годы войны. Женщины и война... Что может быть более противоестестве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Женщина, дарящая жизнь и оберегающая ее, и война, уносящая эту ЖИЗНЬ, единственную и неповторимую... Эти понятия несопостав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Во время Великой Отечественной войны в 1944 году, когда страна уже знала, что Победа - скоро, что надо заживить самую страшную рану - потерю павших солдат и убитых фашистами граждан, </a:t>
            </a:r>
            <a:r>
              <a:rPr b="0" i="1" lang="ru-RU" sz="2000" spc="-1" strike="noStrike">
                <a:solidFill>
                  <a:srgbClr val="002060"/>
                </a:solidFill>
                <a:latin typeface="Georgia"/>
              </a:rPr>
              <a:t>был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уч­режден орден «Мать-героиня». 1 ноября он </a:t>
            </a:r>
            <a:r>
              <a:rPr b="0" i="1" lang="ru-RU" sz="2000" spc="-1" strike="noStrike">
                <a:solidFill>
                  <a:srgbClr val="002060"/>
                </a:solidFill>
                <a:latin typeface="Georgia"/>
              </a:rPr>
              <a:t>был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вручен жительнице Подмосковья - Анне Алексах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img8"/>
          <p:cNvPicPr/>
          <p:nvPr/>
        </p:nvPicPr>
        <p:blipFill>
          <a:blip r:embed="rId1"/>
          <a:stretch/>
        </p:blipFill>
        <p:spPr>
          <a:xfrm>
            <a:off x="5715000" y="500040"/>
            <a:ext cx="292248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28760" y="42876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Мать! Несомненно, это одно из самых глубоких и гармоничных созданий отечественной поэзии. Из-под пера великих мастеров лирических стихов вышли строки, одухотворенные и проникновенные  с любовью к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0" y="2000160"/>
            <a:ext cx="57150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Легче всего обидеть мать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на обидой не ответит,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А только будет повторять: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Не простудись- сегодня ветер!»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Легче всего обидеть мать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ойдут года,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Мы станем старше,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Но кто-то сжав, опять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озьмет бумагу и напишет: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Легче всего обидеть мать».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И, может быть, его услыш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User\Мои документы\день матери\маме3.jpg"/>
          <p:cNvPicPr/>
          <p:nvPr/>
        </p:nvPicPr>
        <p:blipFill>
          <a:blip r:embed="rId1"/>
          <a:stretch/>
        </p:blipFill>
        <p:spPr>
          <a:xfrm>
            <a:off x="4786200" y="2000160"/>
            <a:ext cx="4143600" cy="4659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User\Мои документы\день матери\с днем мамы 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0" descr="1f556efbe48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0" y="373680"/>
            <a:ext cx="88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Е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сть в природе знак святой и вещий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Ярко обозначенный в веках.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Самая прекрасная из женщин -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Женщина с ребенком на руках!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Пусть ей вечно солнце рукоплещет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Так она и будет жить в веках,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Самая прекрасная из женщин-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Женщина с ребенком на рук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7:57:42Z</dcterms:created>
  <dc:creator>User</dc:creator>
  <dc:description/>
  <dc:language>en-US</dc:language>
  <cp:lastModifiedBy>1</cp:lastModifiedBy>
  <dcterms:modified xsi:type="dcterms:W3CDTF">2018-11-18T11:10:06Z</dcterms:modified>
  <cp:revision>84</cp:revision>
  <dc:subject/>
  <dc:title>Самая прекрасная из женщин –женщина с ребенком на руках</dc:title>
</cp:coreProperties>
</file>